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10B-C34B-4F44-ADA3-D62CB5DB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6290-2377-4787-8B87-E46BA9424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9399-7C34-4AC1-B8D8-39A888F5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11B9-152E-4C28-8FC3-3ECD3438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5449-ACF4-4EE9-BF12-64C903D88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E903-C054-4010-A4F9-3D6D4B849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D01F-ED32-43E4-812E-FCF0C608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68F5-6F3A-4DB9-8601-F5D944FC6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ED8E-B481-449B-9AAA-CD9DA0D3F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05F6-7A72-4F83-94B4-9DE77D27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EDF8-F8A2-4AE0-8D44-BE5AA97C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528E-2150-45DB-A825-FA25D98F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EC6B-6300-4C0D-B3A5-B17E5ED6C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72B4-B95E-4FA8-9E27-15EFA3629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5A0-3D29-45EC-9EE1-C76D520E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1643-FF78-419E-B6B1-9A9F565D6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49A3-B752-40B0-BFC7-47B6C4FD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FE4F-23A0-47DE-A9CC-77C1CA60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F0B4-17F6-4572-AF47-572BC6CC8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D0DB-879F-4EA2-893C-42E8F18C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4DC4-C23F-4443-BC93-277CB775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24F9-FDF6-4012-9370-6217CA5F1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153A-027F-4044-996F-17B3F3FDB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EE89-060A-409B-9E7C-45E3E8BC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C93-19C5-43B1-A48F-80C0366B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19D-5A95-46CF-84E9-398E4F7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7F1-6F9E-4DA7-BAB7-360E6ECC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471-3202-46E2-8C28-DF241F28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0D66-401F-4BC2-8DBA-5D804AB9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6E43-D7F6-476B-9343-0A255896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83D6-393D-40E6-B772-1317FF0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CFE9-540F-44DF-B3F3-7A64006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8CE-FCDC-4FCA-BFEA-B3C68655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16EE-E3D0-4A88-BB89-50EEB52C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1F24-C090-4BF6-8DC7-6507BA6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B6C-3F6B-44C8-AC9A-4640F348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EBC-A28B-4E0F-8200-7F2FBF63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B033-01D7-41AB-A774-CC3FC12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7B66-FD80-4FAB-81B8-2211807C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49D7-2FE4-4032-8E7B-D8F8F73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681A-AE6C-411F-AF5B-7B7EC15A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D67E-FD6D-4C3D-90C9-4625E457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560E-1169-4DAF-9632-DB2AC57E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AF18-BE05-4D20-86CD-07F61D15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B1D5-FF87-40C6-B6E3-0581FC19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D117-5A90-49D0-9DF7-5C9E6750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84C-70EE-4BCA-9C11-76EF0720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5F42-0CEE-4E6D-A052-7531DB69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F3EE-ABFB-4AF2-A4DC-89CEE17D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D071-75B7-4426-976F-273B7C8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C800-DADE-4B96-9AD0-E98A94C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1FD6-B959-4103-8329-EEA9F5A8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2D08-ECFB-42C2-99E1-E4224641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401E-68BE-4E03-877F-1BCC4A2E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B25-91B1-4350-B91C-6002801C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5BD-6D22-45BB-B10E-F9B4E090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D20-6C3E-43DC-965E-3F84055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AD8-A581-4C8B-8BFC-9D6C488C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B28-50C9-4C3B-9A0D-BA59D24C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324-CC3A-4654-926D-7E49A47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6D21-3CA1-4397-95F0-F8F4D7476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31BD-E2D9-41F4-8BEC-CB5AF5D4E51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EEAA-CDAF-4318-A691-34FD7F1C19C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50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6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22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2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eroglyphic for 'a' was used only in the beginning of words (where a syllabic 'a' might occur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4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1-17T17:49:08Z</dcterms:modified>
  <cp:revision>20</cp:revision>
  <dc:subject/>
  <dc:title>Slide 1</dc:title>
</cp:coreProperties>
</file>